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7B06-75F1-4FFC-B2FF-5A78731C41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libri"/>
              </a:rPr>
              <a:t>Microsoft Office 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DA3F-CF02-4839-A911-741F470AF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Что такое базы дан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ы да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AB7D-ADF1-48B7-A3A1-91E818C2F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DC05-F938-427C-83C0-30782F2C8D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лассификац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характеру храни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пособу хранен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труктуре реализаци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яционн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1DC4-9D1C-4ABB-84AB-AE25BFB05C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 характеру хранимой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представлены в краткой форме и в строго фиксированном форм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8F06-EF6B-4A53-8D81-EE228E5612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 способу хранения Б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одном компьютере к которому имеют доступ все пользов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разных компьютерах локальной или глобальной 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FE38-E58C-4774-94D6-6077B534C7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структуре реализации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еляционная БД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се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B8EB-727C-4B9D-9EFB-591FD89F68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ип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чик (целые 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 (65535 зна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вой (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, время (дата,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(денежные зна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й (да и 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объек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ультимеди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AA2-75E6-4CE3-8D4B-51DDE9DFD4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481-22D7-4C1F-A54B-15EF2447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DAE-90C9-48E9-A475-B29D7C2A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037-CD5A-486E-984C-C7F7E759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D0D-F4F9-4373-8D59-E2B58E04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461-3F8C-46FB-A62F-28C7DDCD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BE4-77E1-45E3-B514-E0C733A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928-FACF-4835-8807-AE23273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8CF-7753-4C15-A82B-84B92F13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A30-0427-4409-AD96-B44C2B49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2E5-BCC1-42EF-A7E6-36016840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C67-E3DE-4F5D-BF9F-30CE2356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1D9-CA67-4289-8019-EE841BB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A672-B9F9-4798-8B1C-65D90358E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icrosoft Office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4360" y="692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базы дан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ы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У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ификация 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 характеру храним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 способу хранени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 структуре реализаци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яционн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ерархическ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 характеру храним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редставлены в краткой форме и в строго фиксированном форм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способу хранения Б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одном компьютере к которому имеют доступ все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разных компьютерах локальной или глоб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структуре реализаци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еляционная БД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Иерархическ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етев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ая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5744880" cy="177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1933560" cy="184788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1835280" y="206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780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40328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чик (целые 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 (65535 зн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ой (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, время (дата,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ый (денежные зна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й (да и н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объ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ультимеди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2:13:58Z</dcterms:created>
  <dc:creator>48-6</dc:creator>
  <dc:description/>
  <dc:language>en-US</dc:language>
  <cp:lastModifiedBy>LEGION</cp:lastModifiedBy>
  <dcterms:modified xsi:type="dcterms:W3CDTF">2015-04-01T07:04:25Z</dcterms:modified>
  <cp:revision>7</cp:revision>
  <dc:subject/>
  <dc:title>Microsoft Office Access</dc:title>
</cp:coreProperties>
</file>